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C8A-DBBE-4749-ADF3-44E0AFCD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yoclinic.com/health/medical/IM00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yroiduk.org.uk/tuk/about_the_thyroid/thyroid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vingbio.net/endocrine%20system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com/health/medical/IM034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chd.nih.gov/health/topics/adrenal_gland_disorders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AAA-3942-4EAD-AE76-E9919C4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334-943C-4FEE-957E-A6F3A9F7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86F-FA4C-4CAB-9B17-F433C16A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8E9-5233-4F35-958A-DC9B125A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96A-73E3-4D13-AFB6-9FDF272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B78-B160-4065-82A6-EF863DF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427-F85A-4F32-A82A-55DB112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34D-C5B4-45B1-8B6D-092FEAD7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694-29E0-456E-A3E6-BE479BC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BBF-C0FB-42A1-B7D0-F1DA037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652-5717-4E1C-A536-8B6B6E7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472-6AE6-4513-BD48-3D20D64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4AE7-AA7A-4273-B316-56F269C9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&amp;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diffuse into the blood and travel to the pituit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hormones from the hypothalamus stimulate or inhibit release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, stores &amp; 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actin (P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 hormones (TSH, ACTH, FSH, L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cyte-stimulating hormone M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Lob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developed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 endorphins, “natural painkil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phins function in the nervous system in pathways that control 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and releases hormones produced by the hypothala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d by TSH secrete thyroxin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arget cell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verted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riiodothyronine, which enters nucleus and combines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growth, development, metabolism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1120" y="609480"/>
            <a:ext cx="418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as specialized cells that secrete calcitonin (protein 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s in blood by stimulating deposition in bones, and reducing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take by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 causes the anterior pituitary to release T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H causes the thyroid to relea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ibits secretion of TSH by the 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thyroid hormone (PT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s are too low, PTH is relea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bones to rel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kidneys to activate vitamin D, which acts on cells in intestines to incr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9600" y="609480"/>
            <a:ext cx="672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nal medulla secretes epinephrine &amp; nor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r flight”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nal cortex secretes hormones such as aldosterone (osmoregulation), cortisol (blood glucose reg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produced by cells in one part of the body that regulate processe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secrete hormones directly into the blood (exocrine glands into du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are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are soluble in blood when combined with hydrophilic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ater-soluble (protein) hormones. Specific example of using cAMP to activate proteins in the target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2-12-20T11:34:10Z</dcterms:modified>
  <cp:revision>90</cp:revision>
  <dc:subject/>
  <dc:title>Importance of the Endocrine System</dc:title>
</cp:coreProperties>
</file>